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63D6-EB8E-4EF9-BCED-D50EBC14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1A85-B00F-41B4-B917-4CA38EE8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DF57-2B7A-4543-9952-9CB15B27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7D6E-F887-4959-8A2A-C130AE41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2E48-40AC-4C18-AD56-C9C9C653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1D9C-37C4-4DD5-8E57-56A0F4B9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E0C6-D8F9-4729-8B1B-4F942539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8D36-8923-4C34-BF05-6ED067B5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BC34-7CB0-47FA-8916-EE669B3A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6C38-1769-4F5C-880F-DE69A131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397E-DA86-4D22-8934-1AC7F7D9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C860-FC54-47BE-83CC-542AB639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7B07-20E1-4BA0-9BE9-D83A4A17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259F-D2F5-4AFA-8203-353B7216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CC8F-6992-40F5-BDAD-AF1FA3BB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42A6-557A-4F32-8D70-9A545680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0E82-E748-4E14-B148-8A72C4B9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7302-8E1B-4B9C-8920-3DD650A7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3618-A130-45A3-8F7A-EB363389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2129-9332-4B54-A5B1-E38F533D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BF56-3AFD-435E-9C7A-C35C4AE4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C0C0-372C-423F-9ACC-33A27E83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15CF-E4C5-43A1-A676-5CF59ABC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8725-20F9-4E3B-B360-3320131A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4775"/>
            </a:gs>
            <a:gs pos="50000">
              <a:srgbClr val="0b9cff"/>
            </a:gs>
            <a:gs pos="100000">
              <a:srgbClr val="054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1F74-3646-46A9-A154-B61A23789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4775"/>
            </a:gs>
            <a:gs pos="50000">
              <a:srgbClr val="0b9cff"/>
            </a:gs>
            <a:gs pos="100000">
              <a:srgbClr val="054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8FA0-DD3B-4439-A7C0-3ABBEE3665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/imgres?imgurl=http://www.travelblog.org/Wallpaper/pix/tb_fiji_sunset_wallpaper.jpg&amp;imgrefurl=http://www.travelblog.org/Wallpaper/coral_coast_fiji.html&amp;h=864&amp;w=1152&amp;sz=113&amp;tbnid=NFp6ArqlsUoJ::&amp;tbnh=112&amp;tbnw=150&amp;prev=/images%3Fq%3Dsunset&amp;usg=__TlBcfbYaN6XSOMTpxnRgk7oOJcQ=&amp;sa=X&amp;oi=image_result&amp;resnum=5&amp;ct=image&amp;cd=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4775"/>
            </a:gs>
            <a:gs pos="50000">
              <a:srgbClr val="0b9cff"/>
            </a:gs>
            <a:gs pos="100000">
              <a:srgbClr val="054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A Trip Abroa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92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Portfolio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verly Br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mie Wooll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http://www.travelblog.org/Wallpaper/coral_coast_fiji.htm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62320" y="1600200"/>
            <a:ext cx="464796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735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4775"/>
            </a:gs>
            <a:gs pos="50000">
              <a:srgbClr val="0b9cff"/>
            </a:gs>
            <a:gs pos="100000">
              <a:srgbClr val="054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Times New Roman"/>
              </a:rPr>
              <a:t>CFQ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ssential Questio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common to all human being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nit Questio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can your understanding of Spanish language, history, geography and economics help you during your imaginary trip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tent Quest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the products, practices and perspectives of your country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4775"/>
            </a:gs>
            <a:gs pos="50000">
              <a:srgbClr val="0b9cff"/>
            </a:gs>
            <a:gs pos="100000">
              <a:srgbClr val="054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Times New Roman"/>
              </a:rPr>
              <a:t>Vision for Un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creating this unit, I want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my students study of the Spanish-speaking world personally relev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nk of ways to provide my students with a real-world application of their knowledge that they may apply in the fu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ing this unit, I want my student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rn ways to connect Latino culture to their 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technology to communicate with different audi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4775"/>
            </a:gs>
            <a:gs pos="50000">
              <a:srgbClr val="0b9cff"/>
            </a:gs>
            <a:gs pos="100000">
              <a:srgbClr val="054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Times New Roman"/>
              </a:rPr>
              <a:t>Project Approach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3360" y="2133360"/>
            <a:ext cx="854064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my students work on this project, th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nect their project to the real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nect via technology to foreign cultures and current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te a product that shows what they’ve lear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 their learning with a real aud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4775"/>
            </a:gs>
            <a:gs pos="50000">
              <a:srgbClr val="0b9cff"/>
            </a:gs>
            <a:gs pos="100000">
              <a:srgbClr val="054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60280"/>
            <a:ext cx="8510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Times New Roman"/>
              </a:rPr>
              <a:t>21</a:t>
            </a:r>
            <a:r>
              <a:rPr b="1" lang="en-US" sz="4400" spc="-1" strike="noStrike" baseline="30000">
                <a:solidFill>
                  <a:srgbClr val="b7e7ff"/>
                </a:solidFill>
                <a:latin typeface="Times New Roman"/>
              </a:rPr>
              <a:t>st</a:t>
            </a:r>
            <a:r>
              <a:rPr b="1" lang="en-US" sz="4400" spc="-1" strike="noStrike">
                <a:solidFill>
                  <a:srgbClr val="b7e7ff"/>
                </a:solidFill>
                <a:latin typeface="Times New Roman"/>
              </a:rPr>
              <a:t> Century Learn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will develop higher-order and 2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entury skills in this unit as the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200400"/>
            <a:ext cx="845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buClr>
                <a:srgbClr val="ffcc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the Essential and Unit Questions to guide their analysis of their project to find themes that cross cul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buClr>
                <a:srgbClr val="ffcc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e their ideas to a community aud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buClr>
                <a:srgbClr val="ffcc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lect on their reading, writing, research, and thinking strategies, and modify and adapt them as necess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buClr>
                <a:srgbClr val="ffcc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project assessments to self-assess their work and give feedback to their pe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4775"/>
            </a:gs>
            <a:gs pos="50000">
              <a:srgbClr val="0b9cff"/>
            </a:gs>
            <a:gs pos="100000">
              <a:srgbClr val="054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Times New Roman"/>
              </a:rPr>
              <a:t>Gauging Student Needs Assessment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1828800"/>
            <a:ext cx="693396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e CFQs to lea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ents’ ideas about the Spanish-speaking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ground knowledge of Latino 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sess 21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Century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ility to see similarities and differences between cult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4775"/>
            </a:gs>
            <a:gs pos="50000">
              <a:srgbClr val="0b9cff"/>
            </a:gs>
            <a:gs pos="100000">
              <a:srgbClr val="054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31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Times New Roman"/>
              </a:rPr>
              <a:t>Gauging Student Needs Assessment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44792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can use the information from these assessments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514600"/>
            <a:ext cx="71629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ocus on aspects of the Spanish-speaking world that students have prior misconceptions abou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lan activities in which they will answer their ques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97836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can use the information from these assessments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5105520"/>
            <a:ext cx="70102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mpare their questions other students’ ques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et goals for how they will answer their own ques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4775"/>
            </a:gs>
            <a:gs pos="50000">
              <a:srgbClr val="0b9cff"/>
            </a:gs>
            <a:gs pos="100000">
              <a:srgbClr val="054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47920" y="441972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¡Buen Viaje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joy Your Trip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5T00:32:57Z</dcterms:created>
  <dc:creator>Judi Yost</dc:creator>
  <dc:description/>
  <dc:language>en-US</dc:language>
  <cp:lastModifiedBy>Director Of Technology</cp:lastModifiedBy>
  <dcterms:modified xsi:type="dcterms:W3CDTF">2008-12-11T20:09:40Z</dcterms:modified>
  <cp:revision>30</cp:revision>
  <dc:subject/>
  <dc:title>What can Romeo and Juliet Teach Us About Ourselves?</dc:title>
</cp:coreProperties>
</file>